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6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BA269-C352-4DC1-A596-A89296E8E1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54022-5F41-4205-B2F9-A3ED7B5E62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0BB26-28D6-4063-A65B-EE06A464F3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8CEFC-C019-4C89-B576-5C7668B13A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1705D-BD9A-4CF0-B7D5-9888427621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5C0-66DA-41F7-BFD3-F0D303D8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7C3-711B-4A42-9429-9B9293D0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548-9829-4436-86C0-47C5E454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0F9-B02D-4A36-8DBE-4427292F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42B1-91E5-4157-BA23-24F7D047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779A-F8CF-4FB4-93FA-73F1EFEE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F8AD-6321-41C4-B6F4-87EE5C85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60E2-8E8F-45C3-BC5A-531B1D65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EB26-2181-4046-BFB5-77439382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9302-10F2-407E-9FD4-88FBE5BC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D40-AFCF-4968-B176-2774F444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A9F-7481-4F30-A204-C3372EBE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869-B66A-4A34-9ACF-D2CB2E91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FB17-0970-45FF-BE9A-3BA79DD2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5D1C-276F-4A6D-91E1-B963CA83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5F2F-FAF8-4E21-B53E-4062FA58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27A3-2803-4113-A4D9-B896614E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8C13-E49E-45AC-B827-6F08A8BC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4BC0-4F8D-443B-9959-704CF06B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985F-DDF4-4BB2-94B8-17EA8CA5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7AC1-7EE9-46EF-8864-851AA5A8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B83A-34ED-4F63-8D75-19850B1E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7B1-D0B8-42D8-A016-5BC5B1AA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22A0-2E94-4D89-9BD6-8A563DFA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541E-B1F0-42A4-9600-A99230A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300C4-1693-4697-B62D-5C652CDF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083D-AE0B-407A-9932-54975249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1F8E-7335-4C26-B102-80230DE7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E25F-DCCE-44FE-8887-91CB0FF9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57F6B-A960-4E6C-B505-28B5BC9B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1742C-09B1-4F3E-9F0C-AAED5DB0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B95C9-4779-4662-B6B7-0533A7E7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5072-51F0-4BB6-9084-0BBFDDEE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217-8514-4F9C-9124-E6E1E8C6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F8EAA-E653-4CE3-88C2-16C1BDFA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B63B-EA14-4F65-9991-3BAF7A6E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9E6D7-5849-4369-B7C7-93397B78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07368-03E6-45DD-AE14-E8A0CCF9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725E-65E2-49AC-B8BE-3159AB01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BEE4-515A-425A-AF48-E449012E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F6F8-8C7E-49FF-BB25-B4078DC7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FFAFD-9DF4-4CC9-AE7A-66FB53E3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F4BB-F5E2-49C6-97D4-96646F32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46A8E-3FEA-4CCD-A810-B60D406A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687-8969-4536-A72A-6380F02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033C-7013-4B0C-A806-C64CAE66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5FF8E-922C-4CF0-B704-A9A3D6BC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D933-B842-49E1-AF3A-96172751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6784D-0769-4CF5-9B88-3376210D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3CCAE-BEDE-4457-A29F-A5F087CD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4AF18-9E29-42A9-8487-2D4471BE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7903E-88A9-437D-9DE3-8000B864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97FC6-930B-4D1A-BBB7-891110D6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5C129-1924-40FE-9CBD-368E846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2F5C-AE07-4F2A-9F93-DDDA5FE7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61F-C63A-40E5-8F10-41A4C7C0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DB25D-174C-47CA-AECC-290A28DE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F96-4916-45E1-9447-6FEC877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923-67ED-4356-91F1-E55C96D2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090-A653-4891-8C33-AD7BCC8A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50b4c8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7B473-142E-488A-A420-12DA1705B0D1}" type="slidenum">
              <a:rPr b="0" lang="ru-RU" sz="9000" spc="-1" strike="noStrike">
                <a:solidFill>
                  <a:srgbClr val="50b4c8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29908-37B0-4572-AB22-44810D777904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C553B-BE6B-4E0B-9CFC-D0D47045A657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B5174-2A4E-4CC9-8FE4-D4D5D83EE394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50b4c8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75A82-86B7-49BB-ACD6-9802195A69CE}" type="slidenum">
              <a:rPr b="0" lang="ru-RU" sz="9000" spc="-1" strike="noStrike">
                <a:solidFill>
                  <a:srgbClr val="50b4c8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826920" y="1268280"/>
            <a:ext cx="7632720" cy="4033800"/>
          </a:xfrm>
          <a:prstGeom prst="rect">
            <a:avLst/>
          </a:prstGeom>
          <a:gradFill rotWithShape="0">
            <a:gsLst>
              <a:gs pos="0">
                <a:srgbClr val="f6fbfc"/>
              </a:gs>
              <a:gs pos="100000">
                <a:srgbClr val="cbe8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 algn="ctr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ctr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ctr">
              <a:lnSpc>
                <a:spcPct val="150000"/>
              </a:lnSpc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тчет о научно-исследовательской деятельности РГГ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ctr">
              <a:lnSpc>
                <a:spcPct val="150000"/>
              </a:lnSpc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 2017 год и задачи на 2018 г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ования НИР государственного задания РГГМУ в  2017 году</a:t>
            </a:r>
            <a:br>
              <a:rPr sz="2000"/>
            </a:br>
            <a:endParaRPr b="0" lang="en-US" sz="20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8000" y="836640"/>
          <a:ext cx="8748720" cy="5797440"/>
        </p:xfrm>
        <a:graphic>
          <a:graphicData uri="http://schemas.openxmlformats.org/drawingml/2006/table">
            <a:tbl>
              <a:tblPr/>
              <a:tblGrid>
                <a:gridCol w="3870360"/>
                <a:gridCol w="1204920"/>
                <a:gridCol w="1311120"/>
                <a:gridCol w="1328760"/>
                <a:gridCol w="1033560"/>
              </a:tblGrid>
              <a:tr h="433440"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про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 организации на 2017 год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дамен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ивные научные про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базовая час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5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5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проекты, выполняемые научными коллективами научных лабораторий на конкурсной осн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конкурсная час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-технические сотрудники на постоянной основ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научно-исследовательских работ (НИР), в интересах Департаментов Минобрнауки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80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80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4 84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  561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92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 28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95280" y="907920"/>
          <a:ext cx="8424720" cy="5818320"/>
        </p:xfrm>
        <a:graphic>
          <a:graphicData uri="http://schemas.openxmlformats.org/drawingml/2006/table">
            <a:tbl>
              <a:tblPr/>
              <a:tblGrid>
                <a:gridCol w="260280"/>
                <a:gridCol w="1468440"/>
                <a:gridCol w="4969080"/>
                <a:gridCol w="1726920"/>
              </a:tblGrid>
              <a:tr h="61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</a:tr>
              <a:tr h="3319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нициативные научные проекты (базовая част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493.2017/Б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е изменчивости газового состава Арктики в условиях меняющегося клим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шляев С. 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293.2017/Б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ительность многолетнего речного стока и основных водозависимых отраслей экономики к изменениям клим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дукова Е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 16.05.20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</a:tr>
              <a:tr h="79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10.2017/Б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лияния климатических и биологических факторов на эволюцию прибрежных экосистем Балтийского мо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ина Т.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  <a:tr h="6476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ые проекты, выполняемые научными коллективами научных лабораторий на конкурсной основе (конкурс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928.2017/П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овых методов исследования экстремальных явлений в системе океан - атмосфера на основе синергетики спутниковых измерений и моде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цев В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  <a:tr h="4399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ведение научно-исследовательских работ в интересах Департаментов 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425.2017/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состояния и перспектив развития научных исследований в Арктической зоне Российской Федерации и Мировом океане, включая береговую зону окраинных морей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беридзе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</a:tbl>
          </a:graphicData>
        </a:graphic>
      </p:graphicFrame>
      <p:sp>
        <p:nvSpPr>
          <p:cNvPr id="232" name="Прямоугольник 2"/>
          <p:cNvSpPr/>
          <p:nvPr/>
        </p:nvSpPr>
        <p:spPr>
          <a:xfrm>
            <a:off x="468360" y="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исследовательские работы РГГ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задания Минобрнауки России в сфере научной деятельности на 201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метрические показатели выполнения НИР государственного задания РГГМУ  в  20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br>
              <a:rPr sz="4300"/>
            </a:br>
            <a:endParaRPr b="0" lang="en-US" sz="20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9640" y="1268280"/>
          <a:ext cx="8353440" cy="5235840"/>
        </p:xfrm>
        <a:graphic>
          <a:graphicData uri="http://schemas.openxmlformats.org/drawingml/2006/table">
            <a:tbl>
              <a:tblPr/>
              <a:tblGrid>
                <a:gridCol w="4464000"/>
                <a:gridCol w="1873440"/>
                <a:gridCol w="2016000"/>
              </a:tblGrid>
              <a:tr h="575280">
                <a:tc rowSpan="2">
                  <a:txBody>
                    <a:bodyPr lIns="35280" rIns="35280" tIns="0" bIns="0" anchor="t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че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явленные 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игнут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убликаций в журналах, индексируемых в базе данных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b of 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убликаций в журналах, индексируемых в базе данных Sc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8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8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убликаций в журналах, индексируемых в базе данных «Сеть нау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защищенных диссертаций на соискание ученой степени кандидата на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защищенных диссертаций на соискание ученой степени доктора на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финансирования НИР государственного задания РГГМУ в  2018 году</a:t>
            </a:r>
            <a:br>
              <a:rPr sz="2000"/>
            </a:b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а 26.02.2018 г.)</a:t>
            </a:r>
            <a:endParaRPr b="0" lang="en-US" sz="18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8000" y="1125360"/>
          <a:ext cx="8856720" cy="4753080"/>
        </p:xfrm>
        <a:graphic>
          <a:graphicData uri="http://schemas.openxmlformats.org/drawingml/2006/table">
            <a:tbl>
              <a:tblPr/>
              <a:tblGrid>
                <a:gridCol w="3978360"/>
                <a:gridCol w="1204920"/>
                <a:gridCol w="1311120"/>
                <a:gridCol w="1328760"/>
                <a:gridCol w="1033560"/>
              </a:tblGrid>
              <a:tr h="648000"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про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объем финансирования НИР гос. задания РГГМУ на 2018 год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дамен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ивные научные про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818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818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проекты, выполняемые научными коллективами научных лабораторий на конкурсной осн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-технические сотрудники на постоянной основ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 29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 818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92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 47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39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одные сведения о выполнПроблемыяемых НИР в </a:t>
            </a: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2018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году,</a:t>
            </a: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по состоянию на 26.02.2012</a:t>
            </a:r>
            <a:endParaRPr b="0" lang="en-US" sz="14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1125360"/>
          <a:ext cx="8280360" cy="5266080"/>
        </p:xfrm>
        <a:graphic>
          <a:graphicData uri="http://schemas.openxmlformats.org/drawingml/2006/table">
            <a:tbl>
              <a:tblPr/>
              <a:tblGrid>
                <a:gridCol w="503280"/>
                <a:gridCol w="4691160"/>
                <a:gridCol w="1204920"/>
                <a:gridCol w="1881000"/>
              </a:tblGrid>
              <a:tr h="3661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ства министерств и ведом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 3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79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682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ФЦП « Исследования и разработки по приоритетным направлениям развития научно-технологического комплекса России на 201402020 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682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НИР государственного задания РГГ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 29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природы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5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ства фондов поддержки нау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 2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00,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Н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озяйствующих субъ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 4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7 99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187200"/>
          <a:ext cx="9036000" cy="6670800"/>
        </p:xfrm>
        <a:graphic>
          <a:graphicData uri="http://schemas.openxmlformats.org/drawingml/2006/table">
            <a:tbl>
              <a:tblPr/>
              <a:tblGrid>
                <a:gridCol w="287280"/>
                <a:gridCol w="874872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 научных исследований в 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ГГ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экономические, экологические, геополитические проблемы развития Арктической зоны Российской Федерации и защита национальных интересов в Аркти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рационального использования водных биоресурсов и аквакульту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сохранения и развития культурного наследия коренных и малочисленных народов Севера, Сибири и Дальнего Востока, особенности межкультурных и межъязыковых контактов и связей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3924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одные сведения о выполнении НИР в 2015 – 2016 </a:t>
            </a:r>
            <a:r>
              <a:rPr b="1" lang="ru-RU" sz="1800" spc="-1" strike="noStrike">
                <a:solidFill>
                  <a:srgbClr val="00b050"/>
                </a:solidFill>
                <a:latin typeface="Bookman Old Style"/>
              </a:rPr>
              <a:t>– 2017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годах</a:t>
            </a:r>
            <a:endParaRPr b="0" lang="en-US" sz="18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0" y="404640"/>
          <a:ext cx="9001080" cy="6361200"/>
        </p:xfrm>
        <a:graphic>
          <a:graphicData uri="http://schemas.openxmlformats.org/drawingml/2006/table">
            <a:tbl>
              <a:tblPr/>
              <a:tblGrid>
                <a:gridCol w="504720"/>
                <a:gridCol w="2266920"/>
                <a:gridCol w="863640"/>
                <a:gridCol w="1224000"/>
                <a:gridCol w="792360"/>
                <a:gridCol w="1225440"/>
                <a:gridCol w="900000"/>
                <a:gridCol w="122400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5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6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министерств и др. ведом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7 24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 1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4 8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7 24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 1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Bookman Old Style"/>
                        </a:rPr>
                        <a:t>356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природы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918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фондов поддержки науч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7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 67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45 4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670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6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4 4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Н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04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 01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41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бюджета Субъекта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38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87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озяйствующих субъ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89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небюджетные Российсие источ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170,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 0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рубежные источ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 09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7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2f33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2f33"/>
                          </a:solidFill>
                          <a:latin typeface="Times New Roman"/>
                          <a:ea typeface="Times New Roman"/>
                        </a:rPr>
                        <a:t>109 50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 03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2 5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Участие научных коллективов и исследователей РГГМУ в Конкурсах на выполнение НИР в 2017 году</a:t>
            </a:r>
            <a:endParaRPr b="0" lang="en-US" sz="16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8000" y="907920"/>
          <a:ext cx="8893080" cy="5905800"/>
        </p:xfrm>
        <a:graphic>
          <a:graphicData uri="http://schemas.openxmlformats.org/drawingml/2006/table">
            <a:tbl>
              <a:tblPr/>
              <a:tblGrid>
                <a:gridCol w="6985080"/>
                <a:gridCol w="893520"/>
                <a:gridCol w="1014480"/>
              </a:tblGrid>
              <a:tr h="56340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тор конкур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ано зая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игра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инистерства  и ведом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обрауки Рос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ы  на выполнение НИР в рамках государственного задания (конкурс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обрауки Рос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ЦП "«Исследования и разработки по приоритетным направлениям развития научно-технологического комплекса России на 2014—2020 год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ерство культуры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Фонды поддержки научной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52560" rIns="52560" tIns="0" bIns="0" anchor="ctr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фонд фундаментальных исследований (РФФ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научный фонд (РН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редства бюджета Субъектов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ое агенство природопользования и охраны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ерство экологии и природопользования Москов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ующие субъ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ГБУ Центр развития ВХК (хоз/д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нинградское областное государственное учреждение "Региональное агентство природопользования и охраны окружающей среды" (Агенство Природопользовани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езультативность научных исследований в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2017 году</a:t>
            </a:r>
            <a:endParaRPr b="0" lang="en-US" sz="22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333360"/>
          <a:ext cx="8640720" cy="6394320"/>
        </p:xfrm>
        <a:graphic>
          <a:graphicData uri="http://schemas.openxmlformats.org/drawingml/2006/table">
            <a:tbl>
              <a:tblPr/>
              <a:tblGrid>
                <a:gridCol w="5472000"/>
                <a:gridCol w="1152720"/>
                <a:gridCol w="936360"/>
                <a:gridCol w="107964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62f33"/>
                          </a:solidFill>
                          <a:latin typeface="Bookman Old Style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учные публикации, всег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 индексируемых:        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6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наукометрической баз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Web of Sc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наукометрической баз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cop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изданиях, включенных  в РИН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российских научных журналах, включенных в                    перечень В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нференции, в которых участвовали работники вуза, 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з них международ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созданных РИД всего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Заявок на объекты промышленной собствен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cc66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атентов России на изобре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атентов России на полезны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Свидетельств о государственной регистрации программ для ЭВМ, баз данных, выданные Роспатен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тавки, в которых участвовали работники вуза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том числе междунар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189000"/>
          <a:ext cx="8929800" cy="6396120"/>
        </p:xfrm>
        <a:graphic>
          <a:graphicData uri="http://schemas.openxmlformats.org/drawingml/2006/table">
            <a:tbl>
              <a:tblPr/>
              <a:tblGrid>
                <a:gridCol w="71280"/>
                <a:gridCol w="3346560"/>
                <a:gridCol w="719280"/>
                <a:gridCol w="706320"/>
                <a:gridCol w="716040"/>
                <a:gridCol w="533520"/>
                <a:gridCol w="564840"/>
                <a:gridCol w="505080"/>
                <a:gridCol w="463320"/>
                <a:gridCol w="536760"/>
                <a:gridCol w="766800"/>
              </a:tblGrid>
              <a:tr h="769680">
                <a:tc gridSpan="11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дения о публикациях работников структурных подразделений РГГМУ в 2017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 данным кафед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5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урнал входит в переч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ое подраз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ных публик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йское изд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убежное изд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ур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Н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of Sci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еор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4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др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22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25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ультет гидрометеорологического обеспечения экономико-управленческой деятельности в отраслях и комплекс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итут «Полярная акаде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итут информационных систем и гео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55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боратория спутниковой океанографии (Л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</a:tr>
              <a:tr h="409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иал РГГМУ в г. Туап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</a:tr>
              <a:tr h="344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монографиях и учебниках, изданных сотрудниками РГГМУ в 2017 году</a:t>
            </a:r>
            <a:br>
              <a:rPr sz="4300"/>
            </a:br>
            <a:endParaRPr b="0" lang="en-US" sz="16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549360"/>
          <a:ext cx="9036000" cy="6186240"/>
        </p:xfrm>
        <a:graphic>
          <a:graphicData uri="http://schemas.openxmlformats.org/drawingml/2006/table">
            <a:tbl>
              <a:tblPr/>
              <a:tblGrid>
                <a:gridCol w="452520"/>
                <a:gridCol w="2622600"/>
                <a:gridCol w="1065240"/>
                <a:gridCol w="922320"/>
                <a:gridCol w="1112760"/>
                <a:gridCol w="1192320"/>
                <a:gridCol w="890280"/>
                <a:gridCol w="777960"/>
              </a:tblGrid>
              <a:tr h="487440">
                <a:tc rowSpan="2">
                  <a:txBody>
                    <a:bodyPr lIns="53640" rIns="53640" tIns="0" bIns="0" anchor="ctr">
                      <a:noAutofit/>
                    </a:bodyPr>
                    <a:p>
                      <a:pPr marL="92160" indent="-4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3640" rIns="53640" tIns="0" bIns="0" anchor="ctr">
                      <a:noAutofit/>
                    </a:bodyPr>
                    <a:p>
                      <a:pPr marL="281160" indent="-281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труктурное 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монограф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Учеб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(учебные пособ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личество монограф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(раздел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Российское изд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Зарубеж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изд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личество учеб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(уч. пособ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Гриф У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Иные гри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ео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 marL="92160" indent="-4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еан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ультет гидрометеорологического обеспечения экономико-управленческой деятельности в отраслях и комплекс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«Полярная академ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боратория спутниковой океанографии (ЛС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лиал РГГМУ в г. Туап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3640" rIns="53640" tIns="0" bIns="0" anchor="t">
                      <a:noAutofit/>
                    </a:bodyPr>
                    <a:p>
                      <a:pPr marL="250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 РГ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отрудников РГГМУ в научных конференциях в 2017 году</a:t>
            </a:r>
            <a:br>
              <a:rPr sz="2200"/>
            </a:br>
            <a:endParaRPr b="0" lang="en-US" sz="22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981000"/>
          <a:ext cx="8964720" cy="5834160"/>
        </p:xfrm>
        <a:graphic>
          <a:graphicData uri="http://schemas.openxmlformats.org/drawingml/2006/table">
            <a:tbl>
              <a:tblPr/>
              <a:tblGrid>
                <a:gridCol w="441360"/>
                <a:gridCol w="2571840"/>
                <a:gridCol w="1249200"/>
                <a:gridCol w="1363680"/>
                <a:gridCol w="1281240"/>
                <a:gridCol w="1174680"/>
                <a:gridCol w="882720"/>
              </a:tblGrid>
              <a:tr h="3240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marL="250920" indent="-49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труктурное подраз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нфер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л-во докла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Участие в конферен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Международ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Всероссий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Регион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ео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14400" indent="-144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еан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ультет гидрометеорологического обеспечения экономико-управленческой деятельности в отраслях и комплекс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«Полярная академ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14400" indent="-144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боратория спутниковой океанографии (ЛС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лиал РГГМУ в г. Туап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 marL="250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 РГГ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тудентов РГГМУ в Конкурсах  на выполнение НИР в 2017 году</a:t>
            </a:r>
            <a:endParaRPr b="0" lang="en-US" sz="24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1197000"/>
          <a:ext cx="7991280" cy="4968720"/>
        </p:xfrm>
        <a:graphic>
          <a:graphicData uri="http://schemas.openxmlformats.org/drawingml/2006/table">
            <a:tbl>
              <a:tblPr/>
              <a:tblGrid>
                <a:gridCol w="4351320"/>
                <a:gridCol w="2012760"/>
                <a:gridCol w="1627200"/>
              </a:tblGrid>
              <a:tr h="97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тор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ано зая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играно зая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грантов для студентов и аспирантов на выполнение НИ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тор  КНВШ Правительства СП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арктический научно-образовательный консорциум ( "НАНОК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на участие в Форуме Наука будущего – Наука молод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Никита Станиславович Родин</cp:lastModifiedBy>
  <dcterms:modified xsi:type="dcterms:W3CDTF">2018-05-22T12:10:06Z</dcterms:modified>
  <cp:revision>1056</cp:revision>
  <dc:subject/>
  <dc:title>Итоговая сессия Ученого совета РГГМУ</dc:title>
</cp:coreProperties>
</file>